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278-DCAE-471F-9D26-D2BA6335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27F-02B1-485E-8D1B-F4C82B41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34B-2F15-4828-B20D-B0A48636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F14-DCF7-4E46-8A3E-FD3925D4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A5F-04FB-44F5-B3B0-65131F73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0ED-1A97-473C-92C3-7A480976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77A-A9D3-40F0-8008-95DFD4F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6D9-DE6A-4583-A0E4-194303E7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012-5ED7-41CE-8F1D-3C7D72A0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B68-3FAC-4B72-9C2B-03AFE30A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650-ECA1-4C92-ADFA-E73199CB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CB0-2177-4534-B1CF-DE1354D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61EC-5955-4CC6-96C7-33557C89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ic.edu/classes/bios/bios100/lectures/c4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Mechanisms of 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hway during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isCO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is the most abundant protein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talyzes the first reaction of the Calvin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9600" y="19810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cess.mmhs.ca/docs/Science/MMHS%20Web%20folder/Kamla/2010200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reaction of the Calvin cycle, C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“fixed”, form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 molecules of 3-P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es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active site of RuB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179960"/>
            <a:ext cx="77724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cess.mmhs.ca/docs/Science/MMHS%20Web%20folder/Kamla/2010200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uBP is oxidized, it produces 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2920" y="4114800"/>
            <a:ext cx="417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armer temperatures, RuBisCO’s affinity for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s, resulting in less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ing fixed into G3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plants in warmer climates evolved to cope with RuBisCO’s affinity for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1-11-01T17:57:22Z</dcterms:modified>
  <cp:revision>50</cp:revision>
  <dc:subject/>
  <dc:title>Photosynthesis</dc:title>
</cp:coreProperties>
</file>